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803-3DDF-474F-B4FA-EB789A5D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295-B08A-479F-A290-BCB687FD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8A1-BFC3-422F-9AB5-92C90860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E02-895C-4209-B501-6C1BF52A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85D2-C378-4C52-9F1C-C7EB33E4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A878-8AA6-457C-87AD-D3CA4F36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BE7-FC91-4F42-8530-42A08434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8BAB-15D2-4E2A-80A4-422058E6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AC2-C2ED-4F9F-9D3E-A4788D2B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DD6A-C089-4179-80E5-96DFCD7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8694-DDC8-494C-A73E-071E950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A86-6757-4D90-9B29-63AB860E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257A-FD78-496A-B864-F2D4C03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BEF5-FC41-4A54-AA6D-7BBA873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E3C0-D1CF-439E-86B3-036C6AB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76DF-861D-4FB1-9318-93516E24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E072-ECAA-4505-8C27-1F290F82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A27-32F6-4B2A-98E2-866AFF4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92B-BE3C-4CC2-8B8D-B3467353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DBC-9A88-4C0B-8141-688A24F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47B-5CE0-4683-9A9E-22187C9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98D-CA04-4342-B78B-A21D91D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A2C-1696-4E4C-BF3B-039DAE1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356-FA2D-4680-AC4C-ED9AA90A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D5D7-D639-481A-9893-D62B53713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418D-8752-470A-B8AF-A8FC42966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cademic Article Writing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. Edward Robec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ting Faculty Member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i Kebangsaan Malaysia (UK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he Concept of a Knowledge Clai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n you say now that you could not say befo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what basis can you justify the cla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oned Arg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inions/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could you justif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e-to-face teaching is more effective than online instruc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structional unit includes methods that have all been shown be effective, but contradict each other in practic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 much educational research is based on opinion rather than on evidenc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oncept of Contrib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at is the contrib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irical knowledge cla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of an inte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etical foun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osophical ex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ing a new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ologic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itorial Process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(from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Educational Researcher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knowledged by the editor upon receip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ly reviewed by the Co-Edito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 the scope of journal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uted to the Associate Editors—A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Es match the manuscript with three professionals for review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reviewers with expertise in the subject of the artic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ers among but not limited to the ER Editorial Board and ER manuscript review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view process may require 3 to 6 months, depending on the topic and scope of the wor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on completion of the reviews, the Associate Editor will read the manuscript, consider the recommendations made by the reviewers and submit a summary to the Co-Edito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-Editors review all related commentary and then relay their decision in a formal letter to the author(s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mmon Manuscript El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292400"/>
            <a:ext cx="81532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tra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/Background (Either name can be use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 and Procedure (sometim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ith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a subhe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(Sometim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ndin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 (sometim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lusions and Discuss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lusions and Im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e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type of articl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eflection, Empirical, Narrative, Editorial, Theoretical, Other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estigating Early Career Urban Teachers' Perspectives on and Experiences in Professional Develop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nversation of Many Voices: Critiques and Visions of Teacher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 Education and the Outcomes Trap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tegration of Social Justice in Teacher Education: Dimensions of Prospective Teachers’ Opportunities to Lea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ing Community-Oriented Teachers: Reflections from a Multicultural Service-Learning Proj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ome practice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title for this arti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this against the Abstract guidelines in the Template hand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e is an example of a properly formatted APA reference—create one for this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can you say about each of the following based on the abstrac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at each abstract.  What “knowledge claims” does each ma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“contribution” does each study ma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Why Manuscripts Fail</a:t>
            </a:r>
            <a:br>
              <a:rPr sz="36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From: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FFECTIVE MEDICAL WRITING</a:t>
            </a:r>
            <a:br>
              <a:rPr sz="14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Michelle Biros, MS, MD</a:t>
            </a:r>
            <a:br>
              <a:rPr sz="14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http://www.saem.org/meetings/05hand/biros.doc</a:t>
            </a:r>
            <a:br>
              <a:rPr sz="14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Technical rea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ticle is not within the journal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uthors did not follow the instru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lear purpose, poor syntax, extremely verbose, flight of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cal concerns about the study or even the study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st denominator paper,  with a backlog of higher priority wor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 unwilling to revise the manuscript to address reviewer’s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Why Manuscripts Fail</a:t>
            </a:r>
            <a:br>
              <a:rPr sz="36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From: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FFECTIVE MEDICAL WRITING</a:t>
            </a:r>
            <a:br>
              <a:rPr sz="1400"/>
            </a:br>
            <a:r>
              <a:rPr b="1" lang="en-US" sz="1400" spc="-1" strike="noStrike">
                <a:solidFill>
                  <a:srgbClr val="e5ffff"/>
                </a:solidFill>
                <a:latin typeface="Tahoma"/>
              </a:rPr>
              <a:t>Michelle Biros, MS, MD</a:t>
            </a:r>
            <a:br>
              <a:rPr sz="14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http://www.saem.org/meetings/05hand/biros.doc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Cognitive rea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cept is not u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question is triv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obvious serious flaws in the stud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thods are inadequ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sults are not signifi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clusions are overstated or can’t be sup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clusions simply restate the results and/or do not answer the study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evelop an 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con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set of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/information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findings (Knowledge Clai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 (Contribu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oals for the Morn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elements of an academic manuscri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etch the typical manuscript review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some general “Do” and “Don’t” t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some simple writing skill activ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an initial outline for writing a manuscri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excuse me if I’m too basic, or not basic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excuse me if I jump around a b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ask ques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19810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962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53341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5943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5146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124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60880" y="4495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8680" y="5105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65760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66688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65760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8680" y="322884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422440" y="3384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890720"/>
            <a:ext cx="7543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writing serves many purp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general, it is intended to contribute to a professional community by providing new knowledge, applications and/or perspectives that alter in positive ways how professionals understand their practice and its relationship to others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8670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352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3526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44640" y="38545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8545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31496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8006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318280"/>
            <a:ext cx="14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3053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 Writ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810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981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352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962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3341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5943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4495680"/>
            <a:ext cx="60984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1800" y="51055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365760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66688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65760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19760" y="322884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ven Steps To Becoming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Good Wri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 Some M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rite A Lot M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dit Other People’s Draf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ek Input (Editing Group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-wr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657600" y="2057400"/>
            <a:ext cx="17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win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inimum El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con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set of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ipulated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ding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fin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33:53Z</dcterms:created>
  <dc:creator>Ed Robeck</dc:creator>
  <dc:description/>
  <dc:language>en-US</dc:language>
  <cp:lastModifiedBy>Ed Robeck</cp:lastModifiedBy>
  <dcterms:modified xsi:type="dcterms:W3CDTF">2008-04-15T23:59:27Z</dcterms:modified>
  <cp:revision>6</cp:revision>
  <dc:subject/>
  <dc:title>Slide 1</dc:title>
</cp:coreProperties>
</file>